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56B-51F6-40F8-B423-A83C0368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8B75-8646-4065-A04F-D64CB6F3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592-27DB-4648-92C5-734D5FD0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BD8-AC70-491A-A8A6-2EED1E41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C6F7-2E50-4180-9517-D0CC075D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2313-3081-43B1-85CB-EA563679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FB7D-7C18-4974-888F-E2D22793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AAA1-1FEC-4AF2-A328-8FAA82CE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3933-ABDE-4685-A249-98675CF1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E697-50E9-4132-A36C-9DECF20D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A50F-9348-49C6-A625-D719D26B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202-D5D0-42A7-8191-CBE6770C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BBD6-4F8F-457E-BAB6-660D1DC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4D7E-2E80-4534-9FB7-72EBA8E2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D011-5485-491D-8529-0A7E1665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1235-4DA1-47A9-8480-6E04E032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60B7-552D-43A0-ADD4-D04E2F18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B0C-4138-46A6-8806-880D60C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07C-7590-4B60-A53C-242538AD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2B2-53FB-47F1-A330-7C555313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CBA7-7D27-4E8A-8EB0-6BDEF25F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2022-BC87-4995-A903-386F28A9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CB69-63B5-4C88-8B2A-67F48697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0DB-BDFC-4416-B787-015BAA67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7181-4741-45DB-8D0B-37B9F6BB4A8E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L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A20A-4295-48A0-A1F9-826FBDCBDC21}" type="slidenum">
              <a:rPr b="0" lang="ar-L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47640" y="260280"/>
            <a:ext cx="6048720" cy="9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1700" spc="-1" strike="noStrike" u="sng">
                <a:solidFill>
                  <a:srgbClr val="ffffff"/>
                </a:solidFill>
                <a:uFillTx/>
                <a:latin typeface="Tahoma"/>
                <a:cs typeface="AF_Diwani"/>
              </a:rPr>
              <a:t>نشيد المناولة: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ffff"/>
                </a:solidFill>
                <a:latin typeface="Tahoma"/>
                <a:cs typeface="Tahoma"/>
              </a:rPr>
              <a:t>قام الله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ِلتَ المجدَ يا إشعاع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آبِ اله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تَّ جسماً فوقَ العود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بّاً فادي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وتٌ أعطى الـموتى بهجاً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ضاءَ الوعدُ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ورُ الوَعدِ ملءَ الدُّنيا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كَ المجدُ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يدُ الفصحِ بهجُ الروح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عدَ الآل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 ذكراكَ يا ابنَ الله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اضَ الإله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لثالوثِ طابَ الـمدح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ذبَ الأنغام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والشكرانُ ملءَ الدنيا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لءَ الأيام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 اللهُ من مثواهُ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جبّ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حيي الـموتى 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صبَّ الأنوار،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جدُ الربِّ هزَّ العمق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َّ الأقط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تاجُ الـموتِ أهوى أمس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هزءاً وانها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َن أقبَلنَ بالأطيا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ادى السّاه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ِم تطلُبْنَ بينَ الـموت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حيَّ القاد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خذنَ البشرى للأحبابِ: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امَ الظاف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ُروي الدنيا من يَنبوع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جنبِ الطّاهر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فيضُ النّورِ ن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حولَ القب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ثلُ الليلِ الـماحي النّور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ماتَ عِندَ الظّهر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ليلُ ح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لـمّا قامَ نِصفَ الليل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النّورُ هلَّ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َ القدسِ روحَ الحق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مبدا الأنو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قد أعطَيتَ أهلَ البشرى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روحاً من ن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915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جدِّد فينا وسمَ الربّ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علمَ الأبر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بالإنجيلِ والصَّليبِ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500" spc="-1" strike="noStrike">
                <a:solidFill>
                  <a:srgbClr val="ffffff"/>
                </a:solidFill>
                <a:latin typeface="Times New Roman"/>
                <a:cs typeface="Akhbar MT"/>
              </a:rPr>
              <a:t>نَهدي الأفكار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9:52:31Z</dcterms:created>
  <dc:creator>Charbel Azar</dc:creator>
  <dc:description/>
  <dc:language>en-US</dc:language>
  <cp:lastModifiedBy>Charbel Azar</cp:lastModifiedBy>
  <dcterms:modified xsi:type="dcterms:W3CDTF">2002-07-03T11:15:24Z</dcterms:modified>
  <cp:revision>5</cp:revision>
  <dc:subject/>
  <dc:title>PowerPoint Presentation</dc:title>
</cp:coreProperties>
</file>